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applause.wav" ContentType="audio/x-wav"/>
  <Override PartName="/ppt/media/image43.jpeg" ContentType="image/jpeg"/>
  <Override PartName="/ppt/media/image32.jpeg" ContentType="image/jpeg"/>
  <Override PartName="/ppt/media/image5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87E-9C31-4262-9A7C-D30CF25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284-D317-40F0-ADB7-768A84B1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28A-A4D2-49C6-A328-13BB82C2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846-2363-49F1-A75F-7403543C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75F9-8414-4C7A-88C3-D84884E9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82E0-A7F0-4FF7-AE4C-7B0B2CD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B0EF-F5DD-48B1-BF3D-3DC0B7D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B21-6158-4F5F-A223-89FE0C69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4932-6C70-4DB2-88D6-90B23ED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FD9-8CF4-4AF5-818D-9D682072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1479-4668-453F-8832-87B2539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AF6-5199-413A-ACA8-5F67241E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C023-6A63-44BE-A155-D3E1EBB3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067A-6213-4BF8-9DF6-942222F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4265-FBAB-427B-B035-6485130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E900-2843-4BFB-8C67-65657B2B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73A8-06CF-40C1-8154-B6122010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FED1-D30E-4B60-8063-62F029D0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EEA1-BF82-432F-B0CE-50630372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0E82-7DA3-4050-B7A2-85B157FA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C7C4-F0CE-456A-BAC6-44D381F6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3A49-1EDC-4A18-8D59-44DAD6E9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437-28E5-49BE-A2D5-0096517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F375-2C80-4346-8C22-FC6E393A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807F-6DCF-4DEC-8073-DCC7A8A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6E3B-9BDB-491F-92C0-2542325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19DA-B27C-4F3D-9119-6A781CD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E9F5-B2F4-42E4-871A-1C7D413C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6887-E3C3-41A5-B7E0-7280FA99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BEE0-041B-43AD-AF9E-10ED81D5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887-FED2-498E-8A01-C88280E0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443-7BE4-4C18-ACD0-BF5F0EB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661-2741-4491-8811-AAAD82C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E49-7CCF-4CEC-B358-7B03504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4EB-0719-4C7C-8618-1DE9363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1FC-803A-4E13-8429-1FE36DF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49E-5244-4A1A-B251-1C9FD8B03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2B7-28F2-42E4-8B66-573E4ED86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B2CA-1857-4424-92B0-CBB8B81A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the Beginning…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52680" y="5257440"/>
            <a:ext cx="5181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Genesis 1:1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id, “Let the earth bring forth all living creatur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057400" cy="150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400800" y="1676520"/>
            <a:ext cx="2190600" cy="1460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324480" y="43434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57200" y="4419720"/>
            <a:ext cx="251460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it happen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438720" cy="22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saw how good it w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2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29574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od said: “Let us make man in our image, after our liken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286000" cy="1514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2209680" cy="1479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352680" y="304812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477120" y="1676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629400" y="4419720"/>
            <a:ext cx="2057400" cy="16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it happen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looked at everything and found it very g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1447560" cy="941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895480" y="1676520"/>
            <a:ext cx="1447920" cy="92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086600" y="1752480"/>
            <a:ext cx="1357200" cy="903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90720" y="29718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057400" cy="1370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3352680" y="3429000"/>
            <a:ext cx="225288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324480" y="4648320"/>
            <a:ext cx="1828800" cy="126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066680" y="4648320"/>
            <a:ext cx="1676520" cy="12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arth was a formless wasteland and darkness covered the aby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1600" y="2362320"/>
            <a:ext cx="3620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od said, “Let there be light,” and there was l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90760" cy="31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w how good the light w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96240" cy="40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created every kind of plant, vegetable, and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00800" y="4191120"/>
            <a:ext cx="2209680" cy="183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424240" cy="181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1719000" cy="1374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09480" y="42670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God saw how good it w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id, “Let the water teem with an abundance of living creatur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400800" y="4495680"/>
            <a:ext cx="2193840" cy="1463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657600" y="1676520"/>
            <a:ext cx="2036880" cy="39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let birds fly beneath the sky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10348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24480" y="1619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2895480"/>
            <a:ext cx="203688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saw how good it 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God blessed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290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27672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41:06Z</dcterms:created>
  <dc:creator>Debra Coter</dc:creator>
  <dc:description/>
  <dc:language>en-US</dc:language>
  <cp:lastModifiedBy>Debra Coter</cp:lastModifiedBy>
  <dcterms:modified xsi:type="dcterms:W3CDTF">2008-01-14T22:38:29Z</dcterms:modified>
  <cp:revision>7</cp:revision>
  <dc:subject/>
  <dc:title>In the Beginning….</dc:title>
</cp:coreProperties>
</file>